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voltage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69B7-7DFB-4AA6-9955-33483E81F8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C608-C2EC-4F9F-96F9-6F42E4C76B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4C1-BCFF-40F9-A1E8-635441B6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9CF-661C-4324-BF98-987DE276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2AE-E469-450A-B778-57C95547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EC4-02BE-49E9-81A8-939DD974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DD4B-E994-4389-98B4-CD75D1D5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64B-9912-4D1B-8EE7-AA67FCD5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143-4730-4092-A4AA-2A42584C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90F-FED3-4455-9F15-23FC182D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CF05-34C2-46AB-80AC-337326D0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82B-25A1-4993-9849-3307C285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CDE-C28B-476B-9AB6-64389B87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076-5481-4CC6-B322-582A4C6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5E2F-F87F-4B5F-8E2A-8609B1FA33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993600" y="822240"/>
            <a:ext cx="715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 какой части речи говоритьс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50840" y="1444680"/>
            <a:ext cx="704232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 – часть речи интерес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Широко в миру извест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пишу любой предмет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этом равных со мной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чь со мною выразитель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точна, и убедительн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б красиво говори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ною нужно дорож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9,9,-1)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Облако 1" descr=""/>
          <p:cNvPicPr/>
          <p:nvPr/>
        </p:nvPicPr>
        <p:blipFill>
          <a:blip r:embed="rId1"/>
          <a:stretch/>
        </p:blipFill>
        <p:spPr>
          <a:xfrm>
            <a:off x="317520" y="1122480"/>
            <a:ext cx="8502480" cy="348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s1200.png"/>
          <p:cNvPicPr/>
          <p:nvPr/>
        </p:nvPicPr>
        <p:blipFill>
          <a:blip r:embed="rId2"/>
          <a:stretch/>
        </p:blipFill>
        <p:spPr>
          <a:xfrm>
            <a:off x="6848640" y="500040"/>
            <a:ext cx="1904760" cy="1785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User\Downloads\4b3838a78cb28397da48aa52f4b0d7ee.gif"/>
          <p:cNvPicPr/>
          <p:nvPr/>
        </p:nvPicPr>
        <p:blipFill>
          <a:blip r:embed="rId3"/>
          <a:stretch/>
        </p:blipFill>
        <p:spPr>
          <a:xfrm>
            <a:off x="351000" y="620640"/>
            <a:ext cx="1517400" cy="1285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4789440" y="4572000"/>
            <a:ext cx="411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Подготовила : Ляпина Е.В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МБОУ «Криушинская СОШ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Вознесенского района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14" descr=""/>
          <p:cNvPicPr/>
          <p:nvPr/>
        </p:nvPicPr>
        <p:blipFill>
          <a:blip r:embed="rId4"/>
          <a:stretch/>
        </p:blipFill>
        <p:spPr>
          <a:xfrm>
            <a:off x="1125360" y="4572000"/>
            <a:ext cx="1614600" cy="2021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484280" y="981000"/>
            <a:ext cx="617544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йди и исправь ошибк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лодая трав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вонкий ручей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голубые подснежн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яркое солнц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года тёпл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6516720" y="4405320"/>
            <a:ext cx="1614600" cy="20192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46160" y="907920"/>
            <a:ext cx="49496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 чашечке цветка сидел человечек. На голове у него сияла корона, за плечами развевались крылышки, а сам он был не больше Дюймовоч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.-Х. Андерс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. 96 у. 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4992840" y="1163520"/>
            <a:ext cx="3614760" cy="4530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06440" y="754200"/>
            <a:ext cx="396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У занесённых снегом кочек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ел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шапко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него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шли м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цветочек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замёрзший, чу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жи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398520" y="4199040"/>
            <a:ext cx="272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еж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листи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елы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бутон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есенн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цветоче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зовётся он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98520" y="2476440"/>
            <a:ext cx="323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с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оталинк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рос цвети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ячется в валежни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елень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отв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4776840" y="844560"/>
            <a:ext cx="39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Появился из-под снег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идал кусочек неб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ы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самы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ежны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Чистый, малень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отв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4776840" y="2467080"/>
            <a:ext cx="3682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ылез из темниц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с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оталинк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 мороза не боитс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ть и очен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Рисунок 6" descr=""/>
          <p:cNvPicPr/>
          <p:nvPr/>
        </p:nvPicPr>
        <p:blipFill>
          <a:blip r:embed="rId1"/>
          <a:stretch/>
        </p:blipFill>
        <p:spPr>
          <a:xfrm rot="20736600">
            <a:off x="3552840" y="4508280"/>
            <a:ext cx="1074600" cy="19764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"/>
          <p:cNvPicPr/>
          <p:nvPr/>
        </p:nvPicPr>
        <p:blipFill>
          <a:blip r:embed="rId2"/>
          <a:stretch/>
        </p:blipFill>
        <p:spPr>
          <a:xfrm>
            <a:off x="4643280" y="4089240"/>
            <a:ext cx="1614600" cy="22892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"/>
          <p:cNvPicPr/>
          <p:nvPr/>
        </p:nvPicPr>
        <p:blipFill>
          <a:blip r:embed="rId3"/>
          <a:stretch/>
        </p:blipFill>
        <p:spPr>
          <a:xfrm flipH="1" rot="586800">
            <a:off x="6216120" y="4533480"/>
            <a:ext cx="108288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1560" y="765000"/>
            <a:ext cx="66960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Прочитай. Найди имена существительные. Подбери к ним яркие и точные имена прилагательные. Перепиши текст с именами прилагатель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нняя весна. В это время возвращаются красивые скворцы из жарких стран. Скворец –птица с оперением. Песенка у скворушки. Он певец весны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9" descr=""/>
          <p:cNvPicPr/>
          <p:nvPr/>
        </p:nvPicPr>
        <p:blipFill>
          <a:blip r:embed="rId1"/>
          <a:stretch/>
        </p:blipFill>
        <p:spPr>
          <a:xfrm>
            <a:off x="136440" y="495360"/>
            <a:ext cx="2059200" cy="265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2411280" y="836640"/>
            <a:ext cx="597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ння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есна. В это время возвращаются скворцы из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алеких теплы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тран. Скворец –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расива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тица с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лестящи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чёрны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перением. Песенка у скворушк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олнующая,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вонкая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н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евец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олгожданн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есн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9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1885680" cy="242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6"/>
          <p:cNvSpPr txBox="1"/>
          <p:nvPr/>
        </p:nvSpPr>
        <p:spPr>
          <a:xfrm>
            <a:off x="949320" y="2471760"/>
            <a:ext cx="144612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3708360" y="3062160"/>
            <a:ext cx="402912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вторил</a:t>
            </a:r>
            <a:endParaRPr b="1" lang="en-US" sz="10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3780000" y="4219560"/>
            <a:ext cx="40240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помнил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5" name="WordArt 9"/>
          <p:cNvSpPr txBox="1"/>
          <p:nvPr/>
        </p:nvSpPr>
        <p:spPr>
          <a:xfrm>
            <a:off x="3691080" y="1836720"/>
            <a:ext cx="280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знал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6" name="Line 10"/>
          <p:cNvSpPr/>
          <p:nvPr/>
        </p:nvSpPr>
        <p:spPr>
          <a:xfrm flipV="1">
            <a:off x="2627280" y="2060640"/>
            <a:ext cx="865080" cy="72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700360" y="3357720"/>
            <a:ext cx="863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2700360" y="4076640"/>
            <a:ext cx="1008000" cy="43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Рисунок 10" descr=""/>
          <p:cNvPicPr/>
          <p:nvPr/>
        </p:nvPicPr>
        <p:blipFill>
          <a:blip r:embed="rId1"/>
          <a:stretch/>
        </p:blipFill>
        <p:spPr>
          <a:xfrm>
            <a:off x="324000" y="5238720"/>
            <a:ext cx="2931840" cy="1312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User\Downloads\s1200.png"/>
          <p:cNvPicPr/>
          <p:nvPr/>
        </p:nvPicPr>
        <p:blipFill>
          <a:blip r:embed="rId2"/>
          <a:stretch/>
        </p:blipFill>
        <p:spPr>
          <a:xfrm>
            <a:off x="7020000" y="195120"/>
            <a:ext cx="1904760" cy="1785960"/>
          </a:xfrm>
          <a:prstGeom prst="rect">
            <a:avLst/>
          </a:prstGeom>
          <a:ln w="0">
            <a:noFill/>
          </a:ln>
        </p:spPr>
      </p:pic>
      <p:sp>
        <p:nvSpPr>
          <p:cNvPr id="81" name="Подзаголовок 2"/>
          <p:cNvSpPr/>
          <p:nvPr/>
        </p:nvSpPr>
        <p:spPr>
          <a:xfrm>
            <a:off x="619200" y="846000"/>
            <a:ext cx="640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Подумайте и выскажите свои мысли, начиная словам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Win10_Game_OS</cp:lastModifiedBy>
  <dcterms:modified xsi:type="dcterms:W3CDTF">2021-12-15T18:47:06Z</dcterms:modified>
  <cp:revision>180</cp:revision>
  <dc:subject/>
  <dc:title>Слайд 1</dc:title>
</cp:coreProperties>
</file>